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858-9E12-482F-B67F-80AD7EB0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F8F-C88F-49D0-9B12-75D3615E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A18-2A78-4BD9-90EA-57F4879C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7DD-1525-488B-80DA-B86B4AC2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076F-7749-4F4C-A6FE-5B3931F1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06E7-C018-4C44-BDEB-49C49F79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FFB3-E288-4CC9-9F12-A5A0789B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97EF-3C3F-49E0-8C1B-F875DBC7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BD8C-13D3-41F8-8E4A-92575911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DE11-96F7-4EF3-82D0-EA0A9FAC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0860-7AF4-4150-A863-E35AD6E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1C2-E0B4-44D7-A078-92522E51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1AF1-7092-4EC0-8BAF-BDC5866F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4A03-252C-411F-95FF-616C5F7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0710-DA82-4D07-9A3F-4C445F5C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1474-D978-4031-94D4-4EF72D88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072D-E1C2-49FB-BAC8-6822E182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137E-80C4-41A5-8774-9CEE27D1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13AD-D602-4201-8FE0-777A34A4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175F-72EA-41EE-ABF3-6CBC9A9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5406-E8D4-41D2-846B-6C9DB90C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B743-3E08-4095-940C-E6A77455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F63-E801-4776-AFE9-C54B9CE2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8541-12F0-413E-BB21-7994FD4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4804-AC2A-49A2-937E-A2FF4E0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AC2C-96C9-482B-A579-2A8B5131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94CA-973A-44F1-9F24-31A8D4C8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FC0F-B563-400C-B482-121F7FCF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9462-078E-43A2-AC67-E8EB76C5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1909-9CA6-446A-A11A-1625BAB6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130AE-A1F9-4094-9113-DF2AE7A1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0BC2B-115F-49C0-8A77-86F9A836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2395-DA26-4A64-AF89-42B718BE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CF2-08FA-4EA4-963B-D055C98B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DCDA-BAD5-428C-A2D9-0C60BCB9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CEC9-D2E1-4633-925A-12B07F38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3CB35-F393-4584-BE33-E353586B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0E8E-3F29-4C3E-A158-74D88D9C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BAD25-9000-460E-8B8B-CD30557E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207B2-F3A7-4C36-AD38-28588738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7286-C3E5-43CF-B9DC-0394E4AF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5748-0D12-4B19-8A60-A2AA8244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93746-5331-4A4E-864F-FEC0C84C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46D59-BE9E-4067-81E5-76C0C8E5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6B9-FA78-42A0-952D-1CEBD2B6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CD374-1D7A-48F8-963C-B6E7201B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E2772-F7D2-4822-A1E3-BAEBDB31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A05D1-2838-446E-B606-473D5F8E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77E96-E489-4AEA-9B1D-9CD29203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6D366-4987-4844-A1BD-2B304080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3218F-8A84-415D-B9CA-C4121BCC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90014-9FDB-415E-BA12-9BB409E2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E7547-2736-4FCA-A4D9-2C6EE4E3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95A90-C11E-4EF7-9448-73DFB072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5DA44-4B23-419F-AF41-73AF2635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862-47E1-4678-8891-03175593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0FBB6-DF18-4547-AC81-BA013D09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86346-B27B-47C7-AEBD-698C05EA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0E903-6568-4DC1-B023-3E54C621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D05ED-5349-4DCB-AA46-33E02402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DB259-C7B7-4575-9400-7BB66996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7EA2B-DDB4-49C3-A408-0FBE61B1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3DEB-CFC2-4DC5-B60A-95571999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965C9-0028-48C8-A6CD-4AA8C477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F3AE9-86AB-47BC-8F44-1355E294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6138B-68E6-4619-BD85-7961105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A41-1A55-4D52-9D36-E725CD15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7D1D0-EBDF-436A-AD1C-52C65307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EEAEA-6880-412D-B44B-322FAA92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16927-17D9-4745-9B59-469C470C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305E4-6CCC-47A8-B4C6-5B4D0B8C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BFE13-9275-4833-956A-799BD78A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00728-2664-4FB9-A4EA-3036DE90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E29B2-A4D8-4B14-AE17-5D394D2E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F23BD-9069-491D-89DC-39260F5F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A1274-5621-4423-B1D3-3030B2D5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DEE15-F716-4D6C-BC66-5CF87494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B4C-C773-4D9A-B008-C49DC312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7D645-F8D5-494C-B4F7-E72B59C0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D5B6D-8E8A-4E38-81A5-A48FB5AC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3BAD4-E166-4863-B165-9E0689EB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F2498-D701-4413-BB34-D2D5E526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B47FB-AAF9-46B7-AE43-61F0947D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E24DF-3014-4DBC-8144-ADB55342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D7E02-A329-4911-91A5-C010A718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1B3A1-57E3-44DF-90A1-C4B14E40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AE0E-C1DA-427D-BF08-7A935FEE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5297E-5B1F-4A63-9023-5AB79849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106-CF94-4405-A62A-37DC1A8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90E24-D5F0-4247-A9FB-5BBBD320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FB930-5748-4F64-8EF1-B9E35B8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56573-E0C9-4C67-B8B3-2424935F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651EF-E84F-4339-8D11-619C284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5EB56-7F15-47CD-A15E-55965F64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4FD0-FE4F-49E4-A94A-3F57C89A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6A4F-85BC-4611-A1FD-194DFC67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DEB9-188D-420B-BBF7-39F12CE6BF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1ADF-9EF7-4A28-900C-6C88A5DA70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2D42-EC69-4280-B5DE-E2DAD4CD50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20D9-1BAE-42E4-B82F-B2C53893CF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7287-E9A4-4CFB-B6BE-D4CB4618AD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A4CB-EDFA-4545-AC42-BDD0BA13A4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BEA4-C1F8-4DF7-9268-1A1A624AA3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86C5-3C80-4ACE-B0A8-73716E33EA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69280" cy="260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. Jennifer Kate P. T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3, Room Ap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011 to March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752480"/>
            <a:ext cx="40402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cosyste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ther and Clima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irculatory Syste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espiratory Syste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645080" y="1752480"/>
            <a:ext cx="4041720" cy="3633840"/>
            <a:chOff x="4645080" y="1752480"/>
            <a:chExt cx="4041720" cy="3633840"/>
          </a:xfrm>
        </p:grpSpPr>
        <p:pic>
          <p:nvPicPr>
            <p:cNvPr id="377" name="Content Placeholder 6" descr=""/>
            <p:cNvPicPr/>
            <p:nvPr/>
          </p:nvPicPr>
          <p:blipFill>
            <a:blip r:embed="rId3"/>
            <a:stretch/>
          </p:blipFill>
          <p:spPr>
            <a:xfrm>
              <a:off x="4645080" y="1752480"/>
              <a:ext cx="404172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 txBox="1"/>
            <p:nvPr/>
          </p:nvSpPr>
          <p:spPr>
            <a:xfrm>
              <a:off x="4645080" y="1752480"/>
              <a:ext cx="4041720" cy="36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65040" indent="-255600">
                <a:buClr>
                  <a:srgbClr val="2da2bf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752480"/>
            <a:ext cx="40402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ssa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645080" y="1676520"/>
            <a:ext cx="4041720" cy="3709800"/>
            <a:chOff x="4645080" y="1676520"/>
            <a:chExt cx="4041720" cy="3709800"/>
          </a:xfrm>
        </p:grpSpPr>
        <p:pic>
          <p:nvPicPr>
            <p:cNvPr id="384" name="Content Placeholder 5" descr=""/>
            <p:cNvPicPr/>
            <p:nvPr/>
          </p:nvPicPr>
          <p:blipFill>
            <a:blip r:embed="rId3"/>
            <a:stretch/>
          </p:blipFill>
          <p:spPr>
            <a:xfrm>
              <a:off x="4645080" y="1676520"/>
              <a:ext cx="404172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 txBox="1"/>
            <p:nvPr/>
          </p:nvSpPr>
          <p:spPr>
            <a:xfrm>
              <a:off x="4645080" y="1676520"/>
              <a:ext cx="4041720" cy="370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65040" indent="-255600">
                <a:buClr>
                  <a:srgbClr val="2da2bf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752480"/>
            <a:ext cx="40402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hole numb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ometr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ps &amp; Graph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45080" y="1752480"/>
            <a:ext cx="4041720" cy="3633840"/>
            <a:chOff x="4645080" y="1752480"/>
            <a:chExt cx="4041720" cy="3633840"/>
          </a:xfrm>
        </p:grpSpPr>
        <p:pic>
          <p:nvPicPr>
            <p:cNvPr id="391" name="Content Placeholder 5" descr=""/>
            <p:cNvPicPr/>
            <p:nvPr/>
          </p:nvPicPr>
          <p:blipFill>
            <a:blip r:embed="rId3"/>
            <a:stretch/>
          </p:blipFill>
          <p:spPr>
            <a:xfrm>
              <a:off x="4645080" y="1752480"/>
              <a:ext cx="404172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 txBox="1"/>
            <p:nvPr/>
          </p:nvSpPr>
          <p:spPr>
            <a:xfrm>
              <a:off x="4645080" y="1752480"/>
              <a:ext cx="4041720" cy="36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65040" indent="-255600">
                <a:buClr>
                  <a:srgbClr val="2da2bf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7:43:14Z</dcterms:created>
  <dc:creator>WL4</dc:creator>
  <dc:description/>
  <dc:language>en-US</dc:language>
  <cp:lastModifiedBy>User</cp:lastModifiedBy>
  <dcterms:modified xsi:type="dcterms:W3CDTF">2011-10-17T20:32:32Z</dcterms:modified>
  <cp:revision>4</cp:revision>
  <dc:subject/>
  <dc:title>NorthEast II- A Central School</dc:title>
</cp:coreProperties>
</file>